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829-CCB3-412A-AE3D-12E4594A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843-8270-498C-9B15-6ED72DF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8CC-6F08-4374-81A6-0917F653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ACD-AA9A-4E21-B655-D4FE343A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42CD-8121-41E0-8E46-A0C810A8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9CF-FB7A-478D-BA61-7F48087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F217-AE62-4B44-823E-FF24EED0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719-CEA5-4397-9C82-07AD576D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26B7-B3AA-484F-8DA0-D9E8011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F7A-14B0-4F95-B623-E4B50382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6167-FA81-45F2-89CA-E829BC84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8B1-5101-4B33-9AA2-5C33E50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3635-8E10-4DF1-8E16-93A7EFF9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D8ED-D7BC-4435-9C0C-6378F3F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38F-7A35-4FA5-8AC5-D8CA0499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538-4329-499B-A231-906E5786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E219-1116-4B5F-B36D-BFF550F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588-AC87-4248-A0B3-D4603158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277-6974-4294-8E22-D0E7C584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8EA-F883-48AD-8B5B-6ACB3146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386-FAD0-4D37-988F-B57F5CB0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F26-03F1-4175-9086-F05B99A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12A-86F3-44F7-8852-5A4AA95D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50B-BDEE-4F5B-8B95-BA89CC01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CCA8-2D15-48C7-8042-066EC804CF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8ED-350F-4B7D-9BD6-1EE831AE20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cademic.bowdoin.edu/classics/research/wangwright/html/decoration.s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0783229321"/>
          <p:cNvPicPr/>
          <p:nvPr/>
        </p:nvPicPr>
        <p:blipFill>
          <a:blip r:embed="rId1"/>
          <a:stretch/>
        </p:blipFill>
        <p:spPr>
          <a:xfrm>
            <a:off x="2819520" y="1752480"/>
            <a:ext cx="3417840" cy="4905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804320" y="22860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oman Hous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nd Yo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931480" y="30492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IMPLUVI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04920" y="91764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s was a shal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ctangular pool which col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in water from a hole in the cei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f the atr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0" descr="intro6"/>
          <p:cNvPicPr/>
          <p:nvPr/>
        </p:nvPicPr>
        <p:blipFill>
          <a:blip r:embed="rId1"/>
          <a:stretch/>
        </p:blipFill>
        <p:spPr>
          <a:xfrm>
            <a:off x="4343400" y="1219320"/>
            <a:ext cx="4541760" cy="5105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804600" y="5799240"/>
            <a:ext cx="22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uv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2895480" y="5562360"/>
            <a:ext cx="32767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villagods"/>
          <p:cNvPicPr/>
          <p:nvPr/>
        </p:nvPicPr>
        <p:blipFill>
          <a:blip r:embed="rId1"/>
          <a:stretch/>
        </p:blipFill>
        <p:spPr>
          <a:xfrm>
            <a:off x="228600" y="914400"/>
            <a:ext cx="3784680" cy="5410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259440" y="181080"/>
            <a:ext cx="24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LARARI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267080" y="1066680"/>
            <a:ext cx="4619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the right of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luvium wa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lararium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– the shr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the household god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062"/>
          <p:cNvPicPr/>
          <p:nvPr/>
        </p:nvPicPr>
        <p:blipFill>
          <a:blip r:embed="rId2"/>
          <a:stretch/>
        </p:blipFill>
        <p:spPr>
          <a:xfrm>
            <a:off x="4191120" y="342900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omuscol"/>
          <p:cNvPicPr/>
          <p:nvPr/>
        </p:nvPicPr>
        <p:blipFill>
          <a:blip r:embed="rId1"/>
          <a:stretch/>
        </p:blipFill>
        <p:spPr>
          <a:xfrm>
            <a:off x="2209680" y="457200"/>
            <a:ext cx="6629400" cy="521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46960" y="549432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u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219320" y="5562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219320" y="3580920"/>
            <a:ext cx="2209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562560" y="587520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2"/>
          <p:cNvSpPr/>
          <p:nvPr/>
        </p:nvSpPr>
        <p:spPr>
          <a:xfrm flipH="1" flipV="1">
            <a:off x="4190760" y="3733920"/>
            <a:ext cx="2286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3720" y="48276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mpluviu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1295280" y="990720"/>
            <a:ext cx="32767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05280" y="252252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1752480" y="2819520"/>
            <a:ext cx="2133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052640" y="304920"/>
            <a:ext cx="7067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round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were the bedroo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cubicul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 The bedrooms did no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ave doors, but rather were closed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off with a heavy curtai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small_VillaofMysteriesdetail1"/>
          <p:cNvPicPr/>
          <p:nvPr/>
        </p:nvPicPr>
        <p:blipFill>
          <a:blip r:embed="rId1"/>
          <a:stretch/>
        </p:blipFill>
        <p:spPr>
          <a:xfrm>
            <a:off x="1600200" y="2397240"/>
            <a:ext cx="6172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142560" y="121932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b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057400" y="1828800"/>
            <a:ext cx="2590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1752480" y="198108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6680" y="1828800"/>
            <a:ext cx="426744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685800" y="1828800"/>
            <a:ext cx="41148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966960" y="304920"/>
            <a:ext cx="7265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irst area of the house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a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eparated from the second part by th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tudy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ablin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 Here, most import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usiness was conduc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romanvilla01"/>
          <p:cNvPicPr/>
          <p:nvPr/>
        </p:nvPicPr>
        <p:blipFill>
          <a:blip r:embed="rId1"/>
          <a:stretch/>
        </p:blipFill>
        <p:spPr>
          <a:xfrm>
            <a:off x="1523880" y="2362320"/>
            <a:ext cx="60962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33560" y="19130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in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143000" y="2514600"/>
            <a:ext cx="4191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72640" y="380880"/>
            <a:ext cx="7323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econd courtyard area consisted of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open colonnade of pillars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peristyl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rrounding the garden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hortus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peristyle1"/>
          <p:cNvPicPr/>
          <p:nvPr/>
        </p:nvPicPr>
        <p:blipFill>
          <a:blip r:embed="rId1"/>
          <a:stretch/>
        </p:blipFill>
        <p:spPr>
          <a:xfrm>
            <a:off x="1447920" y="2209680"/>
            <a:ext cx="58672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304920" y="4046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peristylum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hortu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area w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laborately decorated and often fami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uld relax here with guests or on their 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00000960_000"/>
          <p:cNvPicPr/>
          <p:nvPr/>
        </p:nvPicPr>
        <p:blipFill>
          <a:blip r:embed="rId1"/>
          <a:stretch/>
        </p:blipFill>
        <p:spPr>
          <a:xfrm>
            <a:off x="1600200" y="2438280"/>
            <a:ext cx="579132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omuscol"/>
          <p:cNvPicPr/>
          <p:nvPr/>
        </p:nvPicPr>
        <p:blipFill>
          <a:blip r:embed="rId1"/>
          <a:stretch/>
        </p:blipFill>
        <p:spPr>
          <a:xfrm>
            <a:off x="2438280" y="914400"/>
            <a:ext cx="6324840" cy="4979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68040" y="2743200"/>
            <a:ext cx="237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stylu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r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057400" y="228564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ome-Sweet-Home-new"/>
          <p:cNvPicPr/>
          <p:nvPr/>
        </p:nvPicPr>
        <p:blipFill>
          <a:blip r:embed="rId1"/>
          <a:stretch/>
        </p:blipFill>
        <p:spPr>
          <a:xfrm>
            <a:off x="1447920" y="17524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013040" y="363600"/>
            <a:ext cx="65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Roman house was not like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dern-day ho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65040" y="487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27760" y="990720"/>
            <a:ext cx="61041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rrounding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peristyl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wer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lave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quar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kitchen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cul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athroom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latr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dining room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riclin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833760" y="457200"/>
            <a:ext cx="7470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kitchen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cul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and the bathro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latr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ere located next to each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other due to the need for running wat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8" descr="kitchen"/>
          <p:cNvPicPr/>
          <p:nvPr/>
        </p:nvPicPr>
        <p:blipFill>
          <a:blip r:embed="rId1"/>
          <a:stretch/>
        </p:blipFill>
        <p:spPr>
          <a:xfrm>
            <a:off x="228600" y="2362320"/>
            <a:ext cx="4876920" cy="3668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4a"/>
          <p:cNvPicPr/>
          <p:nvPr/>
        </p:nvPicPr>
        <p:blipFill>
          <a:blip r:embed="rId2"/>
          <a:stretch/>
        </p:blipFill>
        <p:spPr>
          <a:xfrm>
            <a:off x="5257800" y="2362320"/>
            <a:ext cx="36576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43000" y="15318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35440" y="3284640"/>
            <a:ext cx="14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r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1600200" y="1905120"/>
            <a:ext cx="48769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1752480" y="3276720"/>
            <a:ext cx="4114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228600" y="1676520"/>
            <a:ext cx="3962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last room of the Roman house was the dining room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riclin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hich means 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ree couche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8" descr="FrutR11recon"/>
          <p:cNvPicPr/>
          <p:nvPr/>
        </p:nvPicPr>
        <p:blipFill>
          <a:blip r:embed="rId1"/>
          <a:stretch/>
        </p:blipFill>
        <p:spPr>
          <a:xfrm>
            <a:off x="4648320" y="533520"/>
            <a:ext cx="3524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143640" y="1828800"/>
            <a:ext cx="19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lin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1523880" y="2438280"/>
            <a:ext cx="5410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omuscol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971080" y="2019240"/>
            <a:ext cx="323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FINI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57200" y="380880"/>
            <a:ext cx="83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Roman house did not have a front  yard and came up right to the sidewa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johnston124"/>
          <p:cNvPicPr/>
          <p:nvPr/>
        </p:nvPicPr>
        <p:blipFill>
          <a:blip r:embed="rId1"/>
          <a:stretch/>
        </p:blipFill>
        <p:spPr>
          <a:xfrm>
            <a:off x="2133720" y="2057400"/>
            <a:ext cx="52578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861120" y="304920"/>
            <a:ext cx="7331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re were very few windows due t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act that large windows would ha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de the house incredibly hot during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ummer and cold during the wint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IMG_0406"/>
          <p:cNvPicPr/>
          <p:nvPr/>
        </p:nvPicPr>
        <p:blipFill>
          <a:blip r:embed="rId1"/>
          <a:stretch/>
        </p:blipFill>
        <p:spPr>
          <a:xfrm>
            <a:off x="1676520" y="2432160"/>
            <a:ext cx="5486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pchouse"/>
          <p:cNvPicPr/>
          <p:nvPr/>
        </p:nvPicPr>
        <p:blipFill>
          <a:blip r:embed="rId1"/>
          <a:stretch/>
        </p:blipFill>
        <p:spPr>
          <a:xfrm>
            <a:off x="1828800" y="1981080"/>
            <a:ext cx="5257800" cy="3461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801000" y="380880"/>
            <a:ext cx="742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ront of a Roman house usually had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 front door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ianu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ith two shop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aber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on both sides of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925800" y="586728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7480" y="434340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7492680" y="42670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1600200" y="4495680"/>
            <a:ext cx="1600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1"/>
          <p:cNvSpPr/>
          <p:nvPr/>
        </p:nvSpPr>
        <p:spPr>
          <a:xfrm flipH="1" flipV="1">
            <a:off x="5715000" y="43430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4495680" y="46483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omuscol"/>
          <p:cNvPicPr/>
          <p:nvPr/>
        </p:nvPicPr>
        <p:blipFill>
          <a:blip r:embed="rId1"/>
          <a:stretch/>
        </p:blipFill>
        <p:spPr>
          <a:xfrm>
            <a:off x="2286000" y="53352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66320" y="246528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676520" y="28195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1752480" y="289548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44800" y="450360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an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1523880" y="3886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17440" y="333360"/>
            <a:ext cx="694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Roman house was divided i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parts, each with a courty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urrounded by ro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aus1"/>
          <p:cNvPicPr/>
          <p:nvPr/>
        </p:nvPicPr>
        <p:blipFill>
          <a:blip r:embed="rId1"/>
          <a:stretch/>
        </p:blipFill>
        <p:spPr>
          <a:xfrm>
            <a:off x="1905120" y="2057400"/>
            <a:ext cx="4952880" cy="3805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298440" y="51814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189560" y="365760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1447920" y="3657240"/>
            <a:ext cx="21333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 flipH="1" flipV="1">
            <a:off x="4952880" y="3276720"/>
            <a:ext cx="2819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04920" y="1066680"/>
            <a:ext cx="4038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nce through the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ianu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one would proceed through the entry hall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fauc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) to the firs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urtyar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8" descr="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0880"/>
            <a:ext cx="38131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38088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ATRIU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is was the reception hall where the family received and welcomed guests. In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were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impluv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and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lara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Boulanger_atrium"/>
          <p:cNvPicPr/>
          <p:nvPr/>
        </p:nvPicPr>
        <p:blipFill>
          <a:blip r:embed="rId1"/>
          <a:stretch/>
        </p:blipFill>
        <p:spPr>
          <a:xfrm>
            <a:off x="2133720" y="2819520"/>
            <a:ext cx="4800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31:43Z</dcterms:created>
  <dc:creator>Keith Toda</dc:creator>
  <dc:description/>
  <dc:language>en-US</dc:language>
  <cp:lastModifiedBy>Jamel Daugherty</cp:lastModifiedBy>
  <dcterms:modified xsi:type="dcterms:W3CDTF">2015-04-19T18:28:28Z</dcterms:modified>
  <cp:revision>40</cp:revision>
  <dc:subject/>
  <dc:title>Slide 1</dc:title>
</cp:coreProperties>
</file>